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9F92-2D72-4123-BEEA-F4F623CF1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DF77-7418-4402-BE43-17E88E2D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EDB4-9E3C-4097-8EEE-E4C3C3CEE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BC06-AB4B-4288-93FF-3FC05545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B0BB-B9E3-490B-AEB4-8C30BC05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2769-5C93-42F3-A541-296D63E0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5C04-03C8-4B59-9461-0AF11442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F6BC-5055-4983-AF7C-599A38C1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B1D8-613D-4D54-B7C1-56E655C9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16A8-31CE-4D62-9A77-AD933FBB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C56B-A62B-4E14-B3D3-6C6918F1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4F58-C9DC-4F35-B4CB-DD02CC89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49D6-9B96-4796-BE58-78D0DA811E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3" descr="https://static4.depositphotos.com/1004199/307/i/950/depositphotos_3078132-stock-photo-portrait-of-a-dog-and.jpg"/>
          <p:cNvPicPr/>
          <p:nvPr/>
        </p:nvPicPr>
        <p:blipFill>
          <a:blip r:embed="rId1"/>
          <a:stretch/>
        </p:blipFill>
        <p:spPr>
          <a:xfrm>
            <a:off x="428760" y="0"/>
            <a:ext cx="3286080" cy="20718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1" descr="C:\Users\AeisTea\AppData\Local\Microsoft\Windows\Temporary Internet Files\Content.Word\6198676.jpg"/>
          <p:cNvPicPr/>
          <p:nvPr/>
        </p:nvPicPr>
        <p:blipFill>
          <a:blip r:embed="rId2"/>
          <a:stretch/>
        </p:blipFill>
        <p:spPr>
          <a:xfrm>
            <a:off x="4429080" y="0"/>
            <a:ext cx="47149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5"/>
          <p:cNvSpPr/>
          <p:nvPr/>
        </p:nvSpPr>
        <p:spPr>
          <a:xfrm>
            <a:off x="4786200" y="500040"/>
            <a:ext cx="3857760" cy="4071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5000760" y="642960"/>
            <a:ext cx="342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786200" y="4071960"/>
            <a:ext cx="385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оленко Наталья Михайловна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Прямоугольник 9" descr=""/>
          <p:cNvPicPr/>
          <p:nvPr/>
        </p:nvPicPr>
        <p:blipFill>
          <a:blip r:embed="rId3"/>
          <a:stretch/>
        </p:blipFill>
        <p:spPr>
          <a:xfrm>
            <a:off x="4608360" y="2084400"/>
            <a:ext cx="4280040" cy="12193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12"/>
          <p:cNvSpPr/>
          <p:nvPr/>
        </p:nvSpPr>
        <p:spPr>
          <a:xfrm>
            <a:off x="285840" y="1714680"/>
            <a:ext cx="37861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то любит животных, тот долго живе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 молодость в нем никогда не умре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то кошке с собакой даст в доме прию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ам будет в душе и тепло, и уют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верено жизнью, известнейший факт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гладишь собаку – отступит инфаркт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де “меньшие братья” – в семье доброт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ез них одиноко, вокруг – пустота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ни ежедневно нам радость даю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ыть преданным другом пример подаю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14" descr="http://site-555627.mozfiles.com/files/555627/scaled_7001314_424556.jpg"/>
          <p:cNvPicPr/>
          <p:nvPr/>
        </p:nvPicPr>
        <p:blipFill>
          <a:blip r:embed="rId4"/>
          <a:stretch/>
        </p:blipFill>
        <p:spPr>
          <a:xfrm>
            <a:off x="428760" y="4786200"/>
            <a:ext cx="31431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s://im0-tub-ru.yandex.net/i?id=e0f59b247e279956193ef4c9d8db6aa5&amp;n=33&amp;h=215&amp;w=2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" descr="C:\Users\AeisTea\AppData\Local\Microsoft\Windows\Temporary Internet Files\Content.Word\img203.jpg"/>
          <p:cNvPicPr/>
          <p:nvPr/>
        </p:nvPicPr>
        <p:blipFill>
          <a:blip r:embed="rId2"/>
          <a:stretch/>
        </p:blipFill>
        <p:spPr>
          <a:xfrm>
            <a:off x="5357880" y="3357720"/>
            <a:ext cx="3612960" cy="350028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5214960" y="142920"/>
            <a:ext cx="37861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рукха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 меня есть собака по кличке  Ури, его порода французский бульдо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 черно коричневого окраса, очень мускулистый с большими глаза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ечером я хожу с Уро на прогулку. Он любит играть с мячиком и приносить тапочк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последнее время Ури часто сидит на подоконнике и смотрит в окно. Он очень добрый и послушный, веселый и подвижны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сегда прыгает от радости когда встречает меня со школы. Он любит всех людей без исключения. Я рад, что у меня есть такая соба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авлов Алекс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285840" y="3500280"/>
            <a:ext cx="3429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лик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Я хочу рассказать про своего котенка . Он мой любимый питомец. Его зовут Феликс. Он очень игривый. У него красивая шерстка, черно-белого цве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 очень добрый и ласковы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Я его очень люблю!!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орозденко Евг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5" descr="https://cs1.livemaster.ru/storage/7a/65/98a99c2e93a8fcda18dc283d17--kartiny-panno-kartina-kotyata-risunok-uglem.jpg"/>
          <p:cNvPicPr/>
          <p:nvPr/>
        </p:nvPicPr>
        <p:blipFill>
          <a:blip r:embed="rId3"/>
          <a:stretch/>
        </p:blipFill>
        <p:spPr>
          <a:xfrm>
            <a:off x="500040" y="214200"/>
            <a:ext cx="30718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s://im0-tub-ru.yandex.net/i?id=e0f59b247e279956193ef4c9d8db6aa5&amp;n=33&amp;h=215&amp;w=2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C:\Users\AeisTea\AppData\Local\Microsoft\Windows\Temporary Internet Files\Content.Word\img205.jpg"/>
          <p:cNvPicPr/>
          <p:nvPr/>
        </p:nvPicPr>
        <p:blipFill>
          <a:blip r:embed="rId2"/>
          <a:stretch/>
        </p:blipFill>
        <p:spPr>
          <a:xfrm>
            <a:off x="285840" y="857160"/>
            <a:ext cx="3643200" cy="247644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642960" y="3786120"/>
            <a:ext cx="2928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усин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оего питомца зовут Бусин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а родилась 1 мая так же как и 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а очень любит поспа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Я ее очень люблю !!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5" descr="C:\Users\AeisTea\AppData\Local\Microsoft\Windows\Temporary Internet Files\Content.Word\img206.jpg"/>
          <p:cNvPicPr/>
          <p:nvPr/>
        </p:nvPicPr>
        <p:blipFill>
          <a:blip r:embed="rId3"/>
          <a:stretch/>
        </p:blipFill>
        <p:spPr>
          <a:xfrm>
            <a:off x="5000760" y="928800"/>
            <a:ext cx="397008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s://im0-tub-ru.yandex.net/i?id=e0f59b247e279956193ef4c9d8db6aa5&amp;n=33&amp;h=215&amp;w=2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1"/>
          <p:cNvSpPr/>
          <p:nvPr/>
        </p:nvSpPr>
        <p:spPr>
          <a:xfrm>
            <a:off x="357120" y="142920"/>
            <a:ext cx="37861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ишел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 меня есть мой домашний любимый питомец, это моя собака Мишель. Её порода- померанский шпиц. Мишель мне подарили на мой день рождения. Ей недавно исполнился один год. Она родилась как и я,  20 числа. Я ее очень люблю, каждый день мы с ней гуляем в разных местах. Нам очень нравиться гулять и играть вместе. Каждый раз когда я прихожу домой она очень рада моему приходу. Мишель очень дружелюбная собака. Я ее очень люблю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лебова Али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5572080" y="357120"/>
            <a:ext cx="2714760" cy="44467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C:\Users\AeisTea\AppData\Local\Microsoft\Windows\Temporary Internet Files\Content.Word\img194.jpg"/>
          <p:cNvPicPr/>
          <p:nvPr/>
        </p:nvPicPr>
        <p:blipFill>
          <a:blip r:embed="rId3"/>
          <a:stretch/>
        </p:blipFill>
        <p:spPr>
          <a:xfrm>
            <a:off x="214200" y="3357720"/>
            <a:ext cx="4214880" cy="323352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5357880" y="4572000"/>
            <a:ext cx="3571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ер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ою Собаку зовут Шери.Порода Шери – немецкий боксер. Взяли мы ее совсем маленькой. С нами Шери живет около двух лет. Шери очень ласковая и добрая собака. Мы ее очень любим!!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лесникова Поли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s://im0-tub-ru.yandex.net/i?id=e0f59b247e279956193ef4c9d8db6aa5&amp;n=33&amp;h=215&amp;w=2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214200" y="214200"/>
            <a:ext cx="38577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инде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оего домашнего питомца зовут Киндер Сюрприз, порода мини йоркский терьер. Киндера мне подарили на день рождения, подарок был для меня очень желанный и я не смогла сдержать слезы радости. Киндер сразу стал полноправным членом нашей семь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го любимые занятия: играть, гулять, спать, ставить лапы на подоконник и смотреть что происходит на улице. Его любимое лакомство- косточ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ой четвероногий друг всегда встречает меня после школ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Я не представляю жизнь без моего киндера!!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ихайленко Софь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2" descr="C:\Users\AeisTea\AppData\Local\Microsoft\Windows\Temporary Internet Files\Content.Word\img198.jpg"/>
          <p:cNvPicPr/>
          <p:nvPr/>
        </p:nvPicPr>
        <p:blipFill>
          <a:blip r:embed="rId2"/>
          <a:stretch/>
        </p:blipFill>
        <p:spPr>
          <a:xfrm>
            <a:off x="357120" y="3446640"/>
            <a:ext cx="3541680" cy="341136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5214960" y="4286160"/>
            <a:ext cx="3786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и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 меня есть кошка по кличке Зина. У нее серая шерстка с рыже-белыми пробелами, белая грудка, как рубашка, а на лапках надеты как бы белые носочк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оей кошке 5 лет, а по нашему это 36 л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Я ее очень люблю!!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амойлюк Али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C:\Users\AeisTea\AppData\Local\Microsoft\Windows\Temporary Internet Files\Content.Word\img200.jpg"/>
          <p:cNvPicPr/>
          <p:nvPr/>
        </p:nvPicPr>
        <p:blipFill>
          <a:blip r:embed="rId3"/>
          <a:stretch/>
        </p:blipFill>
        <p:spPr>
          <a:xfrm>
            <a:off x="5286240" y="428760"/>
            <a:ext cx="385776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s://im0-tub-ru.yandex.net/i?id=e0f59b247e279956193ef4c9d8db6aa5&amp;n=33&amp;h=215&amp;w=2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214200" y="142920"/>
            <a:ext cx="40006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ингисх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оего питомца зовут Чисгисхан, или  Чин. Это порода пекинес. Я думаю она произошла от львов, потому, что у них схожий окрас и форма хвоста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 любит играть со своей игрушкой. Когда он спит он полностью вытягивает ноги в перед. Чисгисхан не любит расчесываться и купаться. Когда нас нет дома он ворует сладкое, хотя ему его нельзя есть. Еще он любит сидеть на окне и наблюдать за людьми и машинами. Он очень любит детей и любит играть с ними, но больше всего на свете Чин любит корм. А еще как все собаки он любит гулят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ы его очень любим!!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рияшко Анастас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2" descr="C:\Users\AeisTea\AppData\Local\Microsoft\Windows\Temporary Internet Files\Content.Word\img195.jpg"/>
          <p:cNvPicPr/>
          <p:nvPr/>
        </p:nvPicPr>
        <p:blipFill>
          <a:blip r:embed="rId2"/>
          <a:stretch/>
        </p:blipFill>
        <p:spPr>
          <a:xfrm>
            <a:off x="0" y="3857760"/>
            <a:ext cx="3929040" cy="28573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C:\Users\AeisTea\AppData\Local\Microsoft\Windows\Temporary Internet Files\Content.Word\img199.jpg"/>
          <p:cNvPicPr/>
          <p:nvPr/>
        </p:nvPicPr>
        <p:blipFill>
          <a:blip r:embed="rId3"/>
          <a:stretch/>
        </p:blipFill>
        <p:spPr>
          <a:xfrm>
            <a:off x="5929200" y="142920"/>
            <a:ext cx="2630520" cy="285732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5072040" y="2928960"/>
            <a:ext cx="39290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у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 меня есть домашнее животное-это кошка Мус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а появилась в нашей семье 7 лет назад. Муся очень милая кошечка, у нее рыже-коричневая шёрстка, и хвостик с черными полосками, ярко розовый носик и большие желто-зеленые глаз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оя кошечка игривая, любопытная, очень любит когда ее гладя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а любит смотреть в окно и наблюдать за птицами и насекомыми. Её самая любимая игрушка –это ее веревочка. Я всегда пытаюсь с ней поиграть когда у меня появляется свободная мину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уся-это член нашей семьи. Мы ее очень любим!!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сакова Поли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s://im0-tub-ru.yandex.net/i?id=e0f59b247e279956193ef4c9d8db6aa5&amp;n=33&amp;h=215&amp;w=2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428760" y="214200"/>
            <a:ext cx="36432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ой любимый домашний питомец- это собака. Её зовут Ни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то лайка темно-рыжего окраса. Ей 2 года. Я ее очень люблю. У нее коричневые глаза и на кончике хвоста есть белое пятно. Она очень любит мен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олстиков Андр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5072040" y="4643280"/>
            <a:ext cx="3929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арл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 меня есть любимые питомцы- это собака Чарли и кошка Муся. Они для меня как лучшие друзья. Они очень веселые и я их очень люблю. Чарли я научил давать лап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леттер Ром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3" descr="C:\Users\AeisTea\AppData\Local\Microsoft\Windows\Temporary Internet Files\Content.Word\img197.jpg"/>
          <p:cNvPicPr/>
          <p:nvPr/>
        </p:nvPicPr>
        <p:blipFill>
          <a:blip r:embed="rId2"/>
          <a:stretch/>
        </p:blipFill>
        <p:spPr>
          <a:xfrm>
            <a:off x="357120" y="2357280"/>
            <a:ext cx="3929040" cy="30006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C:\Users\AeisTea\AppData\Local\Microsoft\Windows\Temporary Internet Files\Content.Word\img196.jpg"/>
          <p:cNvPicPr/>
          <p:nvPr/>
        </p:nvPicPr>
        <p:blipFill>
          <a:blip r:embed="rId3"/>
          <a:stretch/>
        </p:blipFill>
        <p:spPr>
          <a:xfrm>
            <a:off x="5286240" y="1143000"/>
            <a:ext cx="368460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s://im0-tub-ru.yandex.net/i?id=e0f59b247e279956193ef4c9d8db6aa5&amp;n=33&amp;h=215&amp;w=2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" descr="C:\Users\AeisTea\AppData\Local\Microsoft\Windows\Temporary Internet Files\Content.Word\img192.jpg"/>
          <p:cNvPicPr/>
          <p:nvPr/>
        </p:nvPicPr>
        <p:blipFill>
          <a:blip r:embed="rId2"/>
          <a:stretch/>
        </p:blipFill>
        <p:spPr>
          <a:xfrm>
            <a:off x="214200" y="142920"/>
            <a:ext cx="3714840" cy="28573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214200" y="3000240"/>
            <a:ext cx="37864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урзи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 меня дома живет красивый кот, его зовут Мурзик. Он пушистый, серого цвета, у него длинные усы, круглые и зеленые глаза. Когда мы приходим домой он всегда ждет нас у дверей., трется о ноги и мурлыкает, как будто радуется, что мы все дома. Я за ним ухаживаю: расчесываю его шёрстку, кормлю его.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м нравиться вечерами всем вместе сидеть перед телевизором. Мурзик запрыгивает мне на колени, устраивается там поудобнее и засыпает, а я его глажу. Я очень люблю своего кота Мурзика, и если мы с ним надолго расстаемся, то я очень по нему скучаю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ммамалие Расулбе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3" descr="C:\Users\AeisTea\AppData\Local\Microsoft\Windows\Temporary Internet Files\Content.Word\img190.jpg"/>
          <p:cNvPicPr/>
          <p:nvPr/>
        </p:nvPicPr>
        <p:blipFill>
          <a:blip r:embed="rId3"/>
          <a:stretch/>
        </p:blipFill>
        <p:spPr>
          <a:xfrm>
            <a:off x="4786200" y="3643200"/>
            <a:ext cx="4357800" cy="321480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5000760" y="142920"/>
            <a:ext cx="38574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льф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 моих бабушки и дедушки есть собака по кличке Альфа. Она восточно-европейская овчарка. Собака знает команды: «Сидеть, стоять, лежать, фас, апорт, ко мне, на место, след, рядом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гда я приезжаю к ним в гости, она прыгает на меня и лижет мне лицо. Я на нее не обижаюсь, потому, что она хочет со мной поиграть. Я ее сам выгуливаю за оградой, далеко я с ней не хожу, потому, что ее все боятьс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устафин Мар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s://im0-tub-ru.yandex.net/i?id=e0f59b247e279956193ef4c9d8db6aa5&amp;n=33&amp;h=215&amp;w=2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"/>
          <p:cNvSpPr/>
          <p:nvPr/>
        </p:nvSpPr>
        <p:spPr>
          <a:xfrm>
            <a:off x="214200" y="142920"/>
            <a:ext cx="39290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арси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 меня есть кот. Его зовут Барсик. Барсику 19 июня будет 5 л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 белого цвета с персиковым хвостом и ушками. У Барсика голубые и очень красивые глаза. Он не ловит мышей, но зато он сильно любит мясо и вареную рыбу. Барсик очень ласковый! Например : если он выйдет на улицу, то тут же подбежит ко мне и будет ходить рядом со мной. У Барсика очень пушистая шерсть, так, что если становиться холодно, то можно греться об нег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ягушева Верон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2" descr="C:\Users\AeisTea\AppData\Local\Microsoft\Windows\Temporary Internet Files\Content.Word\img201.jpg"/>
          <p:cNvPicPr/>
          <p:nvPr/>
        </p:nvPicPr>
        <p:blipFill>
          <a:blip r:embed="rId2"/>
          <a:stretch/>
        </p:blipFill>
        <p:spPr>
          <a:xfrm>
            <a:off x="285840" y="3571920"/>
            <a:ext cx="3786120" cy="271476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5072040" y="2786040"/>
            <a:ext cx="39290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Яш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 меня есть кот , его зовут Яша. Его нашла моя младшая сестра в парке. Яше 11 месяцев. У него зеленые глаз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ждый вечер мы выпускаем кота на улицу. Когда мы что-то делаем то он подходит к нам и любопытно смотрит на нас, как будто хочет нам помоч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иляев Андр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4" descr="C:\Users\AeisTea\AppData\Local\Microsoft\Windows\Temporary Internet Files\Content.Word\img202.jpg"/>
          <p:cNvPicPr/>
          <p:nvPr/>
        </p:nvPicPr>
        <p:blipFill>
          <a:blip r:embed="rId3"/>
          <a:stretch/>
        </p:blipFill>
        <p:spPr>
          <a:xfrm>
            <a:off x="5000760" y="500040"/>
            <a:ext cx="4143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s://im0-tub-ru.yandex.net/i?id=e0f59b247e279956193ef4c9d8db6aa5&amp;n=33&amp;h=215&amp;w=2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" descr="C:\Users\AeisTea\AppData\Local\Microsoft\Windows\Temporary Internet Files\Content.Word\img189.jpg"/>
          <p:cNvPicPr/>
          <p:nvPr/>
        </p:nvPicPr>
        <p:blipFill>
          <a:blip r:embed="rId2"/>
          <a:stretch/>
        </p:blipFill>
        <p:spPr>
          <a:xfrm>
            <a:off x="0" y="428760"/>
            <a:ext cx="4041720" cy="2409840"/>
          </a:xfrm>
          <a:prstGeom prst="rect">
            <a:avLst/>
          </a:prstGeom>
          <a:ln w="0">
            <a:noFill/>
          </a:ln>
        </p:spPr>
      </p:pic>
      <p:sp>
        <p:nvSpPr>
          <p:cNvPr id="85" name="TextBox 2"/>
          <p:cNvSpPr/>
          <p:nvPr/>
        </p:nvSpPr>
        <p:spPr>
          <a:xfrm>
            <a:off x="285840" y="3214800"/>
            <a:ext cx="36432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урзи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ое любимое домашнее животное это кот Мурзик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тот кот появился у нас случайно. Я с мамой возвращался домой и вдруг около 4 магазина мы встретили маленького беленького котенка. Он был очень напуган и сразу же привязался и побежал за нами. Так он дошел до нашего дома. Мы впустили его домой, накормили молоком и с тех пор он живет у нас вот уже 6 месяце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еменов Владисла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5143680" y="428760"/>
            <a:ext cx="3643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оцм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 меня есть четвероногий друг. Это моя собака Боцман. Цвет у него оранжевый, белый и черный. Он живет в стайк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оцман любит когда его гладят и когда с ним гуляют. Рядом с ним я чувствую себя в безопасности. Мой друг очень послушный и выполняет команды: «Сидеть, лежать, дай лапу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Я его очень люблю!!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зарин Савел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5" descr="C:\Users\AeisTea\AppData\Local\Microsoft\Windows\Temporary Internet Files\Content.Word\img204.jpg"/>
          <p:cNvPicPr/>
          <p:nvPr/>
        </p:nvPicPr>
        <p:blipFill>
          <a:blip r:embed="rId3"/>
          <a:stretch/>
        </p:blipFill>
        <p:spPr>
          <a:xfrm>
            <a:off x="5572080" y="3214800"/>
            <a:ext cx="320040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05T09:18:34Z</dcterms:created>
  <dc:creator>AeisTea</dc:creator>
  <dc:description/>
  <dc:language>en-US</dc:language>
  <cp:lastModifiedBy>DNS</cp:lastModifiedBy>
  <dcterms:modified xsi:type="dcterms:W3CDTF">2021-10-09T06:49:09Z</dcterms:modified>
  <cp:revision>21</cp:revision>
  <dc:subject/>
  <dc:title>Слайд 1</dc:title>
</cp:coreProperties>
</file>